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C64-53AC-4EDD-A1B1-399CFF90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8B1-195B-489A-8A00-C75FBF6E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899-F5BD-48E5-896A-22E97866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EBD-F6E0-4BB7-8378-89D78261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989-2BEC-4713-A30D-FE9F4017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AC3-4A49-4A7F-8954-DCA3C6EF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C7F-8864-4AFF-8289-D75D53C3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AF8-0815-46D1-8C8A-741A4ACA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617-4825-45EC-9326-9D47A5DA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258-099F-4809-8B56-A0D5384A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DDA-4F51-4BD4-88F8-72FBB744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205-EF22-4E1A-927C-FBAF0669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D2B5-A72F-4486-8086-C9C39FF221C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15 Grupo"/>
          <p:cNvGrpSpPr/>
          <p:nvPr/>
        </p:nvGrpSpPr>
        <p:grpSpPr>
          <a:xfrm>
            <a:off x="0" y="-214200"/>
            <a:ext cx="3929040" cy="5214960"/>
            <a:chOff x="0" y="-214200"/>
            <a:chExt cx="3929040" cy="5214960"/>
          </a:xfrm>
        </p:grpSpPr>
        <p:pic>
          <p:nvPicPr>
            <p:cNvPr id="43" name="4 Imagen" descr="http://static-p3.fotolia.com/jpg/00/13/62/62/400_F_13626254_t2Z9gG1KZU5D0f1pC9LWbJHyKZ0WCsBv.jpg"/>
            <p:cNvPicPr/>
            <p:nvPr/>
          </p:nvPicPr>
          <p:blipFill>
            <a:blip r:embed="rId2">
              <a:lum contrast="20000"/>
            </a:blip>
            <a:srcRect l="0" t="0" r="15387" b="0"/>
            <a:stretch/>
          </p:blipFill>
          <p:spPr>
            <a:xfrm flipH="1">
              <a:off x="0" y="-214200"/>
              <a:ext cx="392904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12 CuadroTexto"/>
            <p:cNvSpPr/>
            <p:nvPr/>
          </p:nvSpPr>
          <p:spPr>
            <a:xfrm flipH="1">
              <a:off x="501840" y="3214800"/>
              <a:ext cx="2468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16 Grupo"/>
          <p:cNvGrpSpPr/>
          <p:nvPr/>
        </p:nvGrpSpPr>
        <p:grpSpPr>
          <a:xfrm>
            <a:off x="4857840" y="71280"/>
            <a:ext cx="4286160" cy="4500720"/>
            <a:chOff x="4857840" y="71280"/>
            <a:chExt cx="4286160" cy="4500720"/>
          </a:xfrm>
        </p:grpSpPr>
        <p:pic>
          <p:nvPicPr>
            <p:cNvPr id="46" name="5 Imagen" descr="http://static-p3.fotolia.com/jpg/00/13/62/62/400_F_13626254_t2Z9gG1KZU5D0f1pC9LWbJHyKZ0WCsBv.jpg"/>
            <p:cNvPicPr/>
            <p:nvPr/>
          </p:nvPicPr>
          <p:blipFill>
            <a:blip r:embed="rId3"/>
            <a:srcRect l="0" t="0" r="7701" b="0"/>
            <a:stretch/>
          </p:blipFill>
          <p:spPr>
            <a:xfrm>
              <a:off x="4857840" y="71280"/>
              <a:ext cx="4286160" cy="45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13 CuadroTexto"/>
            <p:cNvSpPr/>
            <p:nvPr/>
          </p:nvSpPr>
          <p:spPr>
            <a:xfrm>
              <a:off x="6936840" y="3214800"/>
              <a:ext cx="1864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4" descr="http://s3.amazonaws.com/l.thumbs.canstockphoto.com/canstock0249136.jpg"/>
          <p:cNvPicPr/>
          <p:nvPr/>
        </p:nvPicPr>
        <p:blipFill>
          <a:blip r:embed="rId4"/>
          <a:stretch/>
        </p:blipFill>
        <p:spPr>
          <a:xfrm>
            <a:off x="2428920" y="3998880"/>
            <a:ext cx="2000160" cy="265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images.clipart.com/thm/thm9/CLDC/20080515/PRJ/1/67973946.thm.jpg?1001731106"/>
          <p:cNvPicPr/>
          <p:nvPr/>
        </p:nvPicPr>
        <p:blipFill>
          <a:blip r:embed="rId5"/>
          <a:stretch/>
        </p:blipFill>
        <p:spPr>
          <a:xfrm>
            <a:off x="4786200" y="5189400"/>
            <a:ext cx="1285920" cy="131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6"/>
          <a:srcRect l="20605" t="37906" r="19933" b="39222"/>
          <a:stretch/>
        </p:blipFill>
        <p:spPr>
          <a:xfrm>
            <a:off x="7643880" y="6072120"/>
            <a:ext cx="1228680" cy="473040"/>
          </a:xfrm>
          <a:prstGeom prst="rect">
            <a:avLst/>
          </a:prstGeom>
          <a:ln w="0">
            <a:noFill/>
          </a:ln>
        </p:spPr>
      </p:pic>
      <p:pic>
        <p:nvPicPr>
          <p:cNvPr id="51" name="13 CuadroTexto" descr=""/>
          <p:cNvPicPr/>
          <p:nvPr/>
        </p:nvPicPr>
        <p:blipFill>
          <a:blip r:embed="rId7"/>
          <a:stretch/>
        </p:blipFill>
        <p:spPr>
          <a:xfrm>
            <a:off x="2457360" y="512640"/>
            <a:ext cx="427824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10 Rectángulo"/>
          <p:cNvSpPr/>
          <p:nvPr/>
        </p:nvSpPr>
        <p:spPr>
          <a:xfrm>
            <a:off x="-428760" y="85716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M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ary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______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 a cute boyfriend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11 Rectángulo" descr=""/>
          <p:cNvPicPr/>
          <p:nvPr/>
        </p:nvPicPr>
        <p:blipFill>
          <a:blip r:embed="rId2"/>
          <a:stretch/>
        </p:blipFill>
        <p:spPr>
          <a:xfrm>
            <a:off x="1676520" y="542880"/>
            <a:ext cx="17920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67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68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71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75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46 C 0.00886 0.00254 -1.66666999999992E-006 -0.00162 0.00556 0.00532 C 0.00677 0.00671 0.00851 0.0074 0.0099 0.00832 C 0.01094 0.00994 0.01129 0.01179 0.01285 0.01295 C 0.01528 0.01457 0.02136 0.01573 0.02136 0.01596 C 0.02587 0.02058 0.02778 0.02313 0.03438 0.02474 C 0.03768 0.0303 0.03993 0.03168 0.04584 0.03376 C 0.05781 0.04278 0.07153 0.04949 0.08455 0.05758 C 0.09149 0.06221 0.09896 0.06152 0.10608 0.06499 C 0.11563 0.07007 0.12031 0.074 0.13177 0.07539 C 0.14167 0.08164 0.14879 0.07956 0.1592 0.08302 C 0.16893 0.08603 0.17535 0.08857 0.1849 0.09042 C 0.20538 0.09921 0.19601 0.0969 0.21215 0.09944 C 0.21372 0.09991 0.21511 0.10037 0.21649 0.10083 C 0.21945 0.10153 0.22222 0.10153 0.225 0.10245 C 0.2349 0.10523 0.23698 0.10939 0.24809 0.11124 C 0.25399 0.11425 0.26198 0.1191 0.26806 0.12188 C 0.27049 0.12257 0.28663 0.12465 0.28681 0.12465 C 0.2882 0.12581 0.28941 0.12697 0.29115 0.12766 C 0.29288 0.12858 0.29514 0.12812 0.29688 0.12928 C 0.30972 0.13691 0.29097 0.13136 0.30834 0.13506 C 0.31719 0.14431 0.30799 0.13668 0.32691 0.14107 C 0.33108 0.142 0.33455 0.14431 0.33837 0.14547 C 0.34358 0.14732 0.35243 0.14801 0.35712 0.14847 C 0.36302 0.15287 0.3684 0.1531 0.3757 0.15449 C 0.38663 0.16212 0.39045 0.16351 0.40452 0.16489 C 0.41059 0.16744 0.41719 0.16813 0.42309 0.17091 C 0.42535 0.17183 0.42639 0.17484 0.42882 0.1753 C 0.4382 0.17784 0.45747 0.17993 0.45747 0.18016 C 0.46893 0.18409 0.4783 0.18733 0.49045 0.18871 C 0.50504 0.1938 0.51875 0.19958 0.53351 0.20236 C 0.53802 0.20305 0.54202 0.20536 0.54653 0.20536 E">
                                      <p:cBhvr>
                                        <p:cTn id="261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10 Rectángulo"/>
          <p:cNvSpPr/>
          <p:nvPr/>
        </p:nvSpPr>
        <p:spPr>
          <a:xfrm>
            <a:off x="-428760" y="85716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he princess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______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 a huge castle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11 Rectángulo" descr=""/>
          <p:cNvPicPr/>
          <p:nvPr/>
        </p:nvPicPr>
        <p:blipFill>
          <a:blip r:embed="rId2"/>
          <a:stretch/>
        </p:blipFill>
        <p:spPr>
          <a:xfrm>
            <a:off x="2889360" y="549360"/>
            <a:ext cx="17920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81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82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85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89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46 C 0.00886 0.00254 -1.66666999999992E-006 -0.00162 0.00556 0.00532 C 0.00677 0.00671 0.00851 0.0074 0.0099 0.00832 C 0.01094 0.00994 0.01129 0.01179 0.01285 0.01295 C 0.01528 0.01457 0.02136 0.01573 0.02136 0.01596 C 0.02587 0.02058 0.02778 0.02313 0.03438 0.02474 C 0.03768 0.0303 0.03993 0.03168 0.04584 0.03376 C 0.05781 0.04278 0.07153 0.04949 0.08455 0.05758 C 0.09149 0.06221 0.09896 0.06152 0.10608 0.06499 C 0.11563 0.07007 0.12031 0.074 0.13177 0.07539 C 0.14167 0.08164 0.14879 0.07956 0.1592 0.08302 C 0.16893 0.08603 0.17535 0.08857 0.1849 0.09042 C 0.20538 0.09921 0.19601 0.0969 0.21215 0.09944 C 0.21372 0.09991 0.21511 0.10037 0.21649 0.10083 C 0.21945 0.10153 0.22222 0.10153 0.225 0.10245 C 0.2349 0.10523 0.23698 0.10939 0.24809 0.11124 C 0.25399 0.11425 0.26198 0.1191 0.26806 0.12188 C 0.27049 0.12257 0.28663 0.12465 0.28681 0.12465 C 0.2882 0.12581 0.28941 0.12697 0.29115 0.12766 C 0.29288 0.12858 0.29514 0.12812 0.29688 0.12928 C 0.30972 0.13691 0.29097 0.13136 0.30834 0.13506 C 0.31719 0.14431 0.30799 0.13668 0.32691 0.14107 C 0.33108 0.142 0.33455 0.14431 0.33837 0.14547 C 0.34358 0.14732 0.35243 0.14801 0.35712 0.14847 C 0.36302 0.15287 0.3684 0.1531 0.3757 0.15449 C 0.38663 0.16212 0.39045 0.16351 0.40452 0.16489 C 0.41059 0.16744 0.41719 0.16813 0.42309 0.17091 C 0.42535 0.17183 0.42639 0.17484 0.42882 0.1753 C 0.4382 0.17784 0.45747 0.17993 0.45747 0.18016 C 0.46893 0.18409 0.4783 0.18733 0.49045 0.18871 C 0.50504 0.1938 0.51875 0.19958 0.53351 0.20236 C 0.53802 0.20305 0.54202 0.20536 0.54653 0.20536 E">
                                      <p:cBhvr>
                                        <p:cTn id="29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10 Rectángulo"/>
          <p:cNvSpPr/>
          <p:nvPr/>
        </p:nvSpPr>
        <p:spPr>
          <a:xfrm>
            <a:off x="285840" y="270000"/>
            <a:ext cx="678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0000"/>
                </a:solidFill>
                <a:latin typeface="Berlin Sans FB"/>
              </a:rPr>
              <a:t>D</a:t>
            </a:r>
            <a:r>
              <a:rPr b="0" lang="pt-PT" sz="6000" spc="-1" strike="noStrike">
                <a:solidFill>
                  <a:srgbClr val="000000"/>
                </a:solidFill>
                <a:latin typeface="Berlin Sans FB"/>
              </a:rPr>
              <a:t>aniel</a:t>
            </a:r>
            <a:r>
              <a:rPr b="0" lang="pt-PT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3200" spc="-1" strike="noStrike">
                <a:solidFill>
                  <a:srgbClr val="ff0000"/>
                </a:solidFill>
                <a:latin typeface="Berlin Sans FB"/>
              </a:rPr>
              <a:t>________</a:t>
            </a:r>
            <a:r>
              <a:rPr b="0" lang="pt-PT" sz="32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pt-PT" sz="6000" spc="-1" strike="noStrike">
                <a:solidFill>
                  <a:srgbClr val="000000"/>
                </a:solidFill>
                <a:latin typeface="Berlin Sans FB"/>
              </a:rPr>
              <a:t>a ball</a:t>
            </a:r>
            <a:r>
              <a:rPr b="0" lang="pt-PT" sz="60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1 Rectángulo" descr=""/>
          <p:cNvPicPr/>
          <p:nvPr/>
        </p:nvPicPr>
        <p:blipFill>
          <a:blip r:embed="rId2"/>
          <a:stretch/>
        </p:blipFill>
        <p:spPr>
          <a:xfrm>
            <a:off x="2749680" y="109440"/>
            <a:ext cx="17920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55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56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59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46 C 0.00886 0.00254 -1.66666999999992E-006 -0.00162 0.00556 0.00532 C 0.00677 0.00671 0.00851 0.0074 0.0099 0.00832 C 0.01094 0.00994 0.01129 0.01179 0.01285 0.01295 C 0.01528 0.01457 0.02136 0.01573 0.02136 0.01596 C 0.02587 0.02058 0.02778 0.02313 0.03438 0.02474 C 0.03768 0.0303 0.03993 0.03168 0.04584 0.03376 C 0.05781 0.04278 0.07153 0.04949 0.08455 0.05758 C 0.09149 0.06221 0.09896 0.06152 0.10608 0.06499 C 0.11563 0.07007 0.12031 0.074 0.13177 0.07539 C 0.14167 0.08164 0.14879 0.07956 0.1592 0.08302 C 0.16893 0.08603 0.17535 0.08857 0.1849 0.09042 C 0.20538 0.09921 0.19601 0.0969 0.21215 0.09944 C 0.21372 0.09991 0.21511 0.10037 0.21649 0.10083 C 0.21945 0.10153 0.22222 0.10153 0.225 0.10245 C 0.2349 0.10523 0.23698 0.10939 0.24809 0.11124 C 0.25399 0.11425 0.26198 0.1191 0.26806 0.12188 C 0.27049 0.12257 0.28663 0.12465 0.28681 0.12465 C 0.2882 0.12581 0.28941 0.12697 0.29115 0.12766 C 0.29288 0.12858 0.29514 0.12812 0.29688 0.12928 C 0.30972 0.13691 0.29097 0.13136 0.30834 0.13506 C 0.31719 0.14431 0.30799 0.13668 0.32691 0.14107 C 0.33108 0.142 0.33455 0.14431 0.33837 0.14547 C 0.34358 0.14732 0.35243 0.14801 0.35712 0.14847 C 0.36302 0.15287 0.3684 0.1531 0.3757 0.15449 C 0.38663 0.16212 0.39045 0.16351 0.40452 0.16489 C 0.41059 0.16744 0.41719 0.16813 0.42309 0.17091 C 0.42535 0.17183 0.42639 0.17484 0.42882 0.1753 C 0.4382 0.17784 0.45747 0.17993 0.45747 0.18016 C 0.46893 0.18409 0.4783 0.18733 0.49045 0.18871 C 0.50504 0.1938 0.51875 0.19958 0.53351 0.20236 C 0.53802 0.20305 0.54202 0.20536 0.54653 0.20536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10 Rectángulo"/>
          <p:cNvSpPr/>
          <p:nvPr/>
        </p:nvSpPr>
        <p:spPr>
          <a:xfrm>
            <a:off x="71280" y="801720"/>
            <a:ext cx="721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M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y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 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parents 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_______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a big car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11 Rectángulo" descr=""/>
          <p:cNvPicPr/>
          <p:nvPr/>
        </p:nvPicPr>
        <p:blipFill>
          <a:blip r:embed="rId2"/>
          <a:stretch/>
        </p:blipFill>
        <p:spPr>
          <a:xfrm>
            <a:off x="2762280" y="469800"/>
            <a:ext cx="2254320" cy="1103400"/>
          </a:xfrm>
          <a:prstGeom prst="rect">
            <a:avLst/>
          </a:prstGeom>
          <a:ln w="0">
            <a:noFill/>
          </a:ln>
        </p:spPr>
      </p:pic>
      <p:grpSp>
        <p:nvGrpSpPr>
          <p:cNvPr id="69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70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73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77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21554E-007 C 0.00122 -0.00624 0.00139 -0.00995 0.00486 -0.01388 C 0.00677 -0.02081 0.01007 -0.02498 0.01493 -0.02914 C 0.01667 -0.03538 0.01893 -0.03631 0.02396 -0.03862 C 0.02795 -0.04255 0.0349 -0.04972 0.04011 -0.05227 C 0.04792 -0.05597 0.05747 -0.05666 0.06545 -0.05967 C 0.08056 -0.06591 0.09514 -0.06961 0.11094 -0.07216 C 0.12986 -0.0821 0.14965 -0.08858 0.17031 -0.09043 C 0.18143 -0.09621 0.19219 -0.10338 0.20434 -0.10569 C 0.2099 -0.11008 0.21545 -0.11448 0.22188 -0.11633 C 0.2283 -0.12026 0.22778 -0.1235 0.23455 -0.12558 C 0.23594 -0.1272 0.23681 -0.12928 0.23837 -0.1302 C 0.24323 -0.13298 0.25347 -0.13622 0.25347 -0.13599 C 0.25764 -0.13992 0.2625 -0.14246 0.26615 -0.14686 C 0.2684 -0.14986 0.27049 -0.15287 0.27361 -0.15449 C 0.27778 -0.15657 0.28229 -0.15634 0.28629 -0.15773 C 0.29514 -0.16582 0.30347 -0.16674 0.31406 -0.16998 C 0.33733 -0.18848 0.36945 -0.18756 0.39618 -0.19265 C 0.41476 -0.19635 0.43143 -0.20074 0.45035 -0.20213 C 0.46042 -0.2093 0.46893 -0.20999 0.48073 -0.21115 C 0.48229 -0.2123 0.48386 -0.21369 0.48577 -0.21439 C 0.48785 -0.21508 0.49011 -0.21485 0.49202 -0.21577 C 0.49566 -0.21762 0.49879 -0.22109 0.50226 -0.2234 C 0.50365 -0.22456 0.50729 -0.22479 0.50729 -0.22479 E">
                                      <p:cBhvr>
                                        <p:cTn id="3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10 Rectángulo"/>
          <p:cNvSpPr/>
          <p:nvPr/>
        </p:nvSpPr>
        <p:spPr>
          <a:xfrm>
            <a:off x="0" y="50004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pt-PT" sz="4000" spc="-1" strike="noStrike">
                <a:solidFill>
                  <a:srgbClr val="000000"/>
                </a:solidFill>
                <a:latin typeface="Berlin Sans FB"/>
              </a:rPr>
              <a:t>he children </a:t>
            </a: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________ </a:t>
            </a:r>
            <a:r>
              <a:rPr b="0" lang="pt-PT" sz="4000" spc="-1" strike="noStrike">
                <a:solidFill>
                  <a:srgbClr val="000000"/>
                </a:solidFill>
                <a:latin typeface="Berlin Sans FB"/>
              </a:rPr>
              <a:t>many toys</a:t>
            </a: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1 Rectángulo" descr=""/>
          <p:cNvPicPr/>
          <p:nvPr/>
        </p:nvPicPr>
        <p:blipFill>
          <a:blip r:embed="rId2"/>
          <a:stretch/>
        </p:blipFill>
        <p:spPr>
          <a:xfrm>
            <a:off x="2548080" y="189000"/>
            <a:ext cx="2255760" cy="1103400"/>
          </a:xfrm>
          <a:prstGeom prst="rect">
            <a:avLst/>
          </a:prstGeom>
          <a:ln w="0">
            <a:noFill/>
          </a:ln>
        </p:spPr>
      </p:pic>
      <p:grpSp>
        <p:nvGrpSpPr>
          <p:cNvPr id="83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84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87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91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21554E-007 C 0.00122 -0.00624 0.00139 -0.00995 0.00486 -0.01388 C 0.00677 -0.02081 0.01007 -0.02498 0.01493 -0.02914 C 0.01667 -0.03538 0.01893 -0.03631 0.02396 -0.03862 C 0.02795 -0.04255 0.0349 -0.04972 0.04011 -0.05227 C 0.04792 -0.05597 0.05747 -0.05666 0.06545 -0.05967 C 0.08056 -0.06591 0.09514 -0.06961 0.11094 -0.07216 C 0.12986 -0.0821 0.14965 -0.08858 0.17031 -0.09043 C 0.18143 -0.09621 0.19219 -0.10338 0.20434 -0.10569 C 0.2099 -0.11008 0.21545 -0.11448 0.22188 -0.11633 C 0.2283 -0.12026 0.22778 -0.1235 0.23455 -0.12558 C 0.23594 -0.1272 0.23681 -0.12928 0.23837 -0.1302 C 0.24323 -0.13298 0.25347 -0.13622 0.25347 -0.13599 C 0.25764 -0.13992 0.2625 -0.14246 0.26615 -0.14686 C 0.2684 -0.14986 0.27049 -0.15287 0.27361 -0.15449 C 0.27778 -0.15657 0.28229 -0.15634 0.28629 -0.15773 C 0.29514 -0.16582 0.30347 -0.16674 0.31406 -0.16998 C 0.33733 -0.18848 0.36945 -0.18756 0.39618 -0.19265 C 0.41476 -0.19635 0.43143 -0.20074 0.45035 -0.20213 C 0.46042 -0.2093 0.46893 -0.20999 0.48073 -0.21115 C 0.48229 -0.2123 0.48386 -0.21369 0.48577 -0.21439 C 0.48785 -0.21508 0.49011 -0.21485 0.49202 -0.21577 C 0.49566 -0.21762 0.49879 -0.22109 0.50226 -0.2234 C 0.50365 -0.22456 0.50729 -0.22479 0.50729 -0.22479 E">
                                      <p:cBhvr>
                                        <p:cTn id="7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10 Rectángulo"/>
          <p:cNvSpPr/>
          <p:nvPr/>
        </p:nvSpPr>
        <p:spPr>
          <a:xfrm>
            <a:off x="-357120" y="7142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pt-PT" sz="5400" spc="-1" strike="noStrike">
                <a:solidFill>
                  <a:srgbClr val="000000"/>
                </a:solidFill>
                <a:latin typeface="Berlin Sans FB"/>
              </a:rPr>
              <a:t>he dog </a:t>
            </a:r>
            <a:r>
              <a:rPr b="0" lang="pt-PT" sz="5400" spc="-1" strike="noStrike">
                <a:solidFill>
                  <a:srgbClr val="ff0000"/>
                </a:solidFill>
                <a:latin typeface="Berlin Sans FB"/>
              </a:rPr>
              <a:t>______</a:t>
            </a:r>
            <a:r>
              <a:rPr b="0" lang="pt-PT" sz="5400" spc="-1" strike="noStrike">
                <a:solidFill>
                  <a:srgbClr val="000000"/>
                </a:solidFill>
                <a:latin typeface="Berlin Sans FB"/>
              </a:rPr>
              <a:t> a bone</a:t>
            </a:r>
            <a:r>
              <a:rPr b="0" lang="pt-PT" sz="5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1 Rectángulo" descr=""/>
          <p:cNvPicPr/>
          <p:nvPr/>
        </p:nvPicPr>
        <p:blipFill>
          <a:blip r:embed="rId2"/>
          <a:stretch/>
        </p:blipFill>
        <p:spPr>
          <a:xfrm>
            <a:off x="2676600" y="542880"/>
            <a:ext cx="17920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97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98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01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05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46 C 0.00886 0.00254 -1.66666999999992E-006 -0.00162 0.00556 0.00532 C 0.00677 0.00671 0.00851 0.0074 0.0099 0.00832 C 0.01094 0.00994 0.01129 0.01179 0.01285 0.01295 C 0.01528 0.01457 0.02136 0.01573 0.02136 0.01596 C 0.02587 0.02058 0.02778 0.02313 0.03438 0.02474 C 0.03768 0.0303 0.03993 0.03168 0.04584 0.03376 C 0.05781 0.04278 0.07153 0.04949 0.08455 0.05758 C 0.09149 0.06221 0.09896 0.06152 0.10608 0.06499 C 0.11563 0.07007 0.12031 0.074 0.13177 0.07539 C 0.14167 0.08164 0.14879 0.07956 0.1592 0.08302 C 0.16893 0.08603 0.17535 0.08857 0.1849 0.09042 C 0.20538 0.09921 0.19601 0.0969 0.21215 0.09944 C 0.21372 0.09991 0.21511 0.10037 0.21649 0.10083 C 0.21945 0.10153 0.22222 0.10153 0.225 0.10245 C 0.2349 0.10523 0.23698 0.10939 0.24809 0.11124 C 0.25399 0.11425 0.26198 0.1191 0.26806 0.12188 C 0.27049 0.12257 0.28663 0.12465 0.28681 0.12465 C 0.2882 0.12581 0.28941 0.12697 0.29115 0.12766 C 0.29288 0.12858 0.29514 0.12812 0.29688 0.12928 C 0.30972 0.13691 0.29097 0.13136 0.30834 0.13506 C 0.31719 0.14431 0.30799 0.13668 0.32691 0.14107 C 0.33108 0.142 0.33455 0.14431 0.33837 0.14547 C 0.34358 0.14732 0.35243 0.14801 0.35712 0.14847 C 0.36302 0.15287 0.3684 0.1531 0.3757 0.15449 C 0.38663 0.16212 0.39045 0.16351 0.40452 0.16489 C 0.41059 0.16744 0.41719 0.16813 0.42309 0.17091 C 0.42535 0.17183 0.42639 0.17484 0.42882 0.1753 C 0.4382 0.17784 0.45747 0.17993 0.45747 0.18016 C 0.46893 0.18409 0.4783 0.18733 0.49045 0.18871 C 0.50504 0.1938 0.51875 0.19958 0.53351 0.20236 C 0.53802 0.20305 0.54202 0.20536 0.54653 0.20536 E">
                                      <p:cBhvr>
                                        <p:cTn id="10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10 Rectángulo"/>
          <p:cNvSpPr/>
          <p:nvPr/>
        </p:nvSpPr>
        <p:spPr>
          <a:xfrm>
            <a:off x="-214200" y="500040"/>
            <a:ext cx="714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Berlin Sans FB"/>
              </a:rPr>
              <a:t>I</a:t>
            </a:r>
            <a:r>
              <a:rPr b="0" lang="pt-PT" sz="4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4800" spc="-1" strike="noStrike">
                <a:solidFill>
                  <a:srgbClr val="ff0000"/>
                </a:solidFill>
                <a:latin typeface="Berlin Sans FB"/>
              </a:rPr>
              <a:t>_______ </a:t>
            </a:r>
            <a:r>
              <a:rPr b="0" lang="pt-PT" sz="4800" spc="-1" strike="noStrike">
                <a:solidFill>
                  <a:srgbClr val="000000"/>
                </a:solidFill>
                <a:latin typeface="Berlin Sans FB"/>
              </a:rPr>
              <a:t>a big house</a:t>
            </a:r>
            <a:r>
              <a:rPr b="0" lang="pt-PT" sz="48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2"/>
          <a:stretch/>
        </p:blipFill>
        <p:spPr>
          <a:xfrm>
            <a:off x="762120" y="262080"/>
            <a:ext cx="2255760" cy="1103040"/>
          </a:xfrm>
          <a:prstGeom prst="rect">
            <a:avLst/>
          </a:prstGeom>
          <a:ln w="0">
            <a:noFill/>
          </a:ln>
        </p:spPr>
      </p:pic>
      <p:grpSp>
        <p:nvGrpSpPr>
          <p:cNvPr id="111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12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15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21554E-007 C 0.00122 -0.00624 0.00139 -0.00995 0.00486 -0.01388 C 0.00677 -0.02081 0.01007 -0.02498 0.01493 -0.02914 C 0.01667 -0.03538 0.01893 -0.03631 0.02396 -0.03862 C 0.02795 -0.04255 0.0349 -0.04972 0.04011 -0.05227 C 0.04792 -0.05597 0.05747 -0.05666 0.06545 -0.05967 C 0.08056 -0.06591 0.09514 -0.06961 0.11094 -0.07216 C 0.12986 -0.0821 0.14965 -0.08858 0.17031 -0.09043 C 0.18143 -0.09621 0.19219 -0.10338 0.20434 -0.10569 C 0.2099 -0.11008 0.21545 -0.11448 0.22188 -0.11633 C 0.2283 -0.12026 0.22778 -0.1235 0.23455 -0.12558 C 0.23594 -0.1272 0.23681 -0.12928 0.23837 -0.1302 C 0.24323 -0.13298 0.25347 -0.13622 0.25347 -0.13599 C 0.25764 -0.13992 0.2625 -0.14246 0.26615 -0.14686 C 0.2684 -0.14986 0.27049 -0.15287 0.27361 -0.15449 C 0.27778 -0.15657 0.28229 -0.15634 0.28629 -0.15773 C 0.29514 -0.16582 0.30347 -0.16674 0.31406 -0.16998 C 0.33733 -0.18848 0.36945 -0.18756 0.39618 -0.19265 C 0.41476 -0.19635 0.43143 -0.20074 0.45035 -0.20213 C 0.46042 -0.2093 0.46893 -0.20999 0.48073 -0.21115 C 0.48229 -0.2123 0.48386 -0.21369 0.48577 -0.21439 C 0.48785 -0.21508 0.49011 -0.21485 0.49202 -0.21577 C 0.49566 -0.21762 0.49879 -0.22109 0.50226 -0.2234 C 0.50365 -0.22456 0.50729 -0.22479 0.50729 -0.22479 E">
                                      <p:cBhvr>
                                        <p:cTn id="13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10 Rectángulo"/>
          <p:cNvSpPr/>
          <p:nvPr/>
        </p:nvSpPr>
        <p:spPr>
          <a:xfrm>
            <a:off x="-214200" y="73008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W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e 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_______ 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chicken for dinner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11 Rectángulo" descr=""/>
          <p:cNvPicPr/>
          <p:nvPr/>
        </p:nvPicPr>
        <p:blipFill>
          <a:blip r:embed="rId2"/>
          <a:stretch/>
        </p:blipFill>
        <p:spPr>
          <a:xfrm>
            <a:off x="689040" y="396720"/>
            <a:ext cx="225576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25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26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29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33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21554E-007 C 0.00122 -0.00624 0.00139 -0.00995 0.00486 -0.01388 C 0.00677 -0.02081 0.01007 -0.02498 0.01493 -0.02914 C 0.01667 -0.03538 0.01893 -0.03631 0.02396 -0.03862 C 0.02795 -0.04255 0.0349 -0.04972 0.04011 -0.05227 C 0.04792 -0.05597 0.05747 -0.05666 0.06545 -0.05967 C 0.08056 -0.06591 0.09514 -0.06961 0.11094 -0.07216 C 0.12986 -0.0821 0.14965 -0.08858 0.17031 -0.09043 C 0.18143 -0.09621 0.19219 -0.10338 0.20434 -0.10569 C 0.2099 -0.11008 0.21545 -0.11448 0.22188 -0.11633 C 0.2283 -0.12026 0.22778 -0.1235 0.23455 -0.12558 C 0.23594 -0.1272 0.23681 -0.12928 0.23837 -0.1302 C 0.24323 -0.13298 0.25347 -0.13622 0.25347 -0.13599 C 0.25764 -0.13992 0.2625 -0.14246 0.26615 -0.14686 C 0.2684 -0.14986 0.27049 -0.15287 0.27361 -0.15449 C 0.27778 -0.15657 0.28229 -0.15634 0.28629 -0.15773 C 0.29514 -0.16582 0.30347 -0.16674 0.31406 -0.16998 C 0.33733 -0.18848 0.36945 -0.18756 0.39618 -0.19265 C 0.41476 -0.19635 0.43143 -0.20074 0.45035 -0.20213 C 0.46042 -0.2093 0.46893 -0.20999 0.48073 -0.21115 C 0.48229 -0.2123 0.48386 -0.21369 0.48577 -0.21439 C 0.48785 -0.21508 0.49011 -0.21485 0.49202 -0.21577 C 0.49566 -0.21762 0.49879 -0.22109 0.50226 -0.2234 C 0.50365 -0.22456 0.50729 -0.22479 0.50729 -0.22479 E">
                                      <p:cBhvr>
                                        <p:cTn id="16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10 Rectángulo"/>
          <p:cNvSpPr/>
          <p:nvPr/>
        </p:nvSpPr>
        <p:spPr>
          <a:xfrm>
            <a:off x="-428760" y="85716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M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y friend 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______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 a new computer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11 Rectángulo" descr=""/>
          <p:cNvPicPr/>
          <p:nvPr/>
        </p:nvPicPr>
        <p:blipFill>
          <a:blip r:embed="rId2"/>
          <a:stretch/>
        </p:blipFill>
        <p:spPr>
          <a:xfrm>
            <a:off x="2176560" y="542880"/>
            <a:ext cx="17920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39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40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43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47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46 C 0.00886 0.00254 -1.66666999999992E-006 -0.00162 0.00556 0.00532 C 0.00677 0.00671 0.00851 0.0074 0.0099 0.00832 C 0.01094 0.00994 0.01129 0.01179 0.01285 0.01295 C 0.01528 0.01457 0.02136 0.01573 0.02136 0.01596 C 0.02587 0.02058 0.02778 0.02313 0.03438 0.02474 C 0.03768 0.0303 0.03993 0.03168 0.04584 0.03376 C 0.05781 0.04278 0.07153 0.04949 0.08455 0.05758 C 0.09149 0.06221 0.09896 0.06152 0.10608 0.06499 C 0.11563 0.07007 0.12031 0.074 0.13177 0.07539 C 0.14167 0.08164 0.14879 0.07956 0.1592 0.08302 C 0.16893 0.08603 0.17535 0.08857 0.1849 0.09042 C 0.20538 0.09921 0.19601 0.0969 0.21215 0.09944 C 0.21372 0.09991 0.21511 0.10037 0.21649 0.10083 C 0.21945 0.10153 0.22222 0.10153 0.225 0.10245 C 0.2349 0.10523 0.23698 0.10939 0.24809 0.11124 C 0.25399 0.11425 0.26198 0.1191 0.26806 0.12188 C 0.27049 0.12257 0.28663 0.12465 0.28681 0.12465 C 0.2882 0.12581 0.28941 0.12697 0.29115 0.12766 C 0.29288 0.12858 0.29514 0.12812 0.29688 0.12928 C 0.30972 0.13691 0.29097 0.13136 0.30834 0.13506 C 0.31719 0.14431 0.30799 0.13668 0.32691 0.14107 C 0.33108 0.142 0.33455 0.14431 0.33837 0.14547 C 0.34358 0.14732 0.35243 0.14801 0.35712 0.14847 C 0.36302 0.15287 0.3684 0.1531 0.3757 0.15449 C 0.38663 0.16212 0.39045 0.16351 0.40452 0.16489 C 0.41059 0.16744 0.41719 0.16813 0.42309 0.17091 C 0.42535 0.17183 0.42639 0.17484 0.42882 0.1753 C 0.4382 0.17784 0.45747 0.17993 0.45747 0.18016 C 0.46893 0.18409 0.4783 0.18733 0.49045 0.18871 C 0.50504 0.1938 0.51875 0.19958 0.53351 0.20236 C 0.53802 0.20305 0.54202 0.20536 0.54653 0.20536 E">
                                      <p:cBhvr>
                                        <p:cTn id="19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10 Rectángulo"/>
          <p:cNvSpPr/>
          <p:nvPr/>
        </p:nvSpPr>
        <p:spPr>
          <a:xfrm>
            <a:off x="-428760" y="928800"/>
            <a:ext cx="885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pt-PT" sz="4000" spc="-1" strike="noStrike">
                <a:solidFill>
                  <a:srgbClr val="000000"/>
                </a:solidFill>
                <a:latin typeface="Berlin Sans FB"/>
              </a:rPr>
              <a:t>hey </a:t>
            </a: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_______ </a:t>
            </a:r>
            <a:r>
              <a:rPr b="0" lang="pt-PT" sz="4000" spc="-1" strike="noStrike">
                <a:solidFill>
                  <a:srgbClr val="000000"/>
                </a:solidFill>
                <a:latin typeface="Berlin Sans FB"/>
              </a:rPr>
              <a:t>an </a:t>
            </a: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E</a:t>
            </a:r>
            <a:r>
              <a:rPr b="0" lang="pt-PT" sz="4000" spc="-1" strike="noStrike">
                <a:solidFill>
                  <a:srgbClr val="000000"/>
                </a:solidFill>
                <a:latin typeface="Berlin Sans FB"/>
              </a:rPr>
              <a:t>nglish exam today</a:t>
            </a: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11 Rectángulo" descr=""/>
          <p:cNvPicPr/>
          <p:nvPr/>
        </p:nvPicPr>
        <p:blipFill>
          <a:blip r:embed="rId2"/>
          <a:stretch/>
        </p:blipFill>
        <p:spPr>
          <a:xfrm>
            <a:off x="1109520" y="669960"/>
            <a:ext cx="1994040" cy="982800"/>
          </a:xfrm>
          <a:prstGeom prst="rect">
            <a:avLst/>
          </a:prstGeom>
          <a:ln w="0">
            <a:noFill/>
          </a:ln>
        </p:spPr>
      </p:pic>
      <p:grpSp>
        <p:nvGrpSpPr>
          <p:cNvPr id="153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54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57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61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21554E-007 C 0.00122 -0.00624 0.00139 -0.00995 0.00486 -0.01388 C 0.00677 -0.02081 0.01007 -0.02498 0.01493 -0.02914 C 0.01667 -0.03538 0.01893 -0.03631 0.02396 -0.03862 C 0.02795 -0.04255 0.0349 -0.04972 0.04011 -0.05227 C 0.04792 -0.05597 0.05747 -0.05666 0.06545 -0.05967 C 0.08056 -0.06591 0.09514 -0.06961 0.11094 -0.07216 C 0.12986 -0.0821 0.14965 -0.08858 0.17031 -0.09043 C 0.18143 -0.09621 0.19219 -0.10338 0.20434 -0.10569 C 0.2099 -0.11008 0.21545 -0.11448 0.22188 -0.11633 C 0.2283 -0.12026 0.22778 -0.1235 0.23455 -0.12558 C 0.23594 -0.1272 0.23681 -0.12928 0.23837 -0.1302 C 0.24323 -0.13298 0.25347 -0.13622 0.25347 -0.13599 C 0.25764 -0.13992 0.2625 -0.14246 0.26615 -0.14686 C 0.2684 -0.14986 0.27049 -0.15287 0.27361 -0.15449 C 0.27778 -0.15657 0.28229 -0.15634 0.28629 -0.15773 C 0.29514 -0.16582 0.30347 -0.16674 0.31406 -0.16998 C 0.33733 -0.18848 0.36945 -0.18756 0.39618 -0.19265 C 0.41476 -0.19635 0.43143 -0.20074 0.45035 -0.20213 C 0.46042 -0.2093 0.46893 -0.20999 0.48073 -0.21115 C 0.48229 -0.2123 0.48386 -0.21369 0.48577 -0.21439 C 0.48785 -0.21508 0.49011 -0.21485 0.49202 -0.21577 C 0.49566 -0.21762 0.49879 -0.22109 0.50226 -0.2234 C 0.50365 -0.22456 0.50729 -0.22479 0.50729 -0.22479 E">
                                      <p:cBhvr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52:41Z</dcterms:created>
  <dc:creator>LORE</dc:creator>
  <dc:description/>
  <dc:language>en-US</dc:language>
  <cp:lastModifiedBy>LORE</cp:lastModifiedBy>
  <dcterms:modified xsi:type="dcterms:W3CDTF">2009-10-24T07:18:47Z</dcterms:modified>
  <cp:revision>25</cp:revision>
  <dc:subject/>
  <dc:title>Diapositiva 1</dc:title>
</cp:coreProperties>
</file>